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8456-A85F-45D8-B89F-F899CAB6A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8742-A9B8-4F36-8B88-4668D4C12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3F5F-C914-4F94-972D-6E7C26B2C6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B480-0F51-4C3E-8D50-24B7F9AB2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2FF3-CD22-48EC-8FA4-FDEF38C37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D434-3D6D-47C1-A2EA-2B5C30A90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A0E-3786-4492-9A3D-4ECA349D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164-68EE-4CF1-8E11-109CE2F7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1B1-6555-4007-B12F-1D535ED1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95C-D6D4-4E90-9E60-21FA284E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D27-6896-491B-AA06-662FD74B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A5C-3515-466C-83BC-6F7CB7A3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DA6-5DE2-444D-8ADB-5907BC99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FB5-D599-448F-9E32-7B62A969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E54-35FD-4121-BF06-9CB09A6B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4FD-9BBD-4762-9F1E-507673A9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069-56C7-4918-89FE-07D9A50F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245-DDAA-42FB-BE9B-9831091E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388F-1094-4ABA-9DFF-DF71C1A92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iajes-a.net/pais/Italia-94.htm" TargetMode="External"/><Relationship Id="rId2" Type="http://schemas.openxmlformats.org/officeDocument/2006/relationships/hyperlink" Target="http://www.viajes-a.net/pais/Rusia-157.htm" TargetMode="External"/><Relationship Id="rId3" Type="http://schemas.openxmlformats.org/officeDocument/2006/relationships/hyperlink" Target="http://www.viajes-a.net/pais/Alemania-3.htm" TargetMode="External"/><Relationship Id="rId4" Type="http://schemas.openxmlformats.org/officeDocument/2006/relationships/hyperlink" Target="http://www.viajes-a.net/pais/Colombia-41.htm" TargetMode="External"/><Relationship Id="rId5" Type="http://schemas.openxmlformats.org/officeDocument/2006/relationships/hyperlink" Target="http://www.viajes-a.net/pais/Francia-66.htm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ajes-a.net/pais/Canada-35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785960" y="571680"/>
            <a:ext cx="442908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os vaqu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lg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mell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 sombr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m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os gu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a t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final clothes bits and b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find out the 10 most visited countries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ace to make a duplicate of a poster (without seeing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learn the 10 most popular countries in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tal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458596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veranos son calurosos especialmente en el s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s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74095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cú, San Petersburgo y Kiev son las tres ciudades más impor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lema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51611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egar por las aguas del Rin, desde la ciudad de Koblen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lomb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41543 vis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ribe colombiano: Infinidad de playas con palm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ranc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31941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renas son magníficas para los deportes de navegación con v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6"/>
          <a:stretch/>
        </p:blipFill>
        <p:spPr>
          <a:xfrm>
            <a:off x="7164360" y="0"/>
            <a:ext cx="17287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65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nad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17671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mida es 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i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04092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mayoría de los lagos de Suiza podrá practicar windsurf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an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01685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ctividades turísticas que ofrece Holanda es extensí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rue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79577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ruecos ofrece innumerables posibi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ma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75049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mania ofrece una amplia gama de posibilidades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7164360" y="0"/>
            <a:ext cx="17287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9640" y="1197000"/>
            <a:ext cx="2159280" cy="55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rue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a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u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nad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um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l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867280" y="1197000"/>
            <a:ext cx="2159280" cy="55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u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roc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79280" y="18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ecta el inglés y el españ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84360" y="620640"/>
            <a:ext cx="35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s países túri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(Touristy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0:41:59Z</dcterms:created>
  <dc:creator>cfuller</dc:creator>
  <dc:description/>
  <dc:language>en-US</dc:language>
  <cp:lastModifiedBy>Chris</cp:lastModifiedBy>
  <dcterms:modified xsi:type="dcterms:W3CDTF">2009-03-12T15:04:16Z</dcterms:modified>
  <cp:revision>8</cp:revision>
  <dc:subject/>
  <dc:title>Slide 1</dc:title>
</cp:coreProperties>
</file>